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E67-7FBB-43D3-BF25-09545C36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334-9CFC-4E04-9261-71CE7AFB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43A-9DB6-435D-BAD4-BC24BB91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55C-1419-4279-BC18-636FD59A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93B-AC64-49BC-BD6A-19C52A69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D81-3785-4528-9C6F-34EB8C87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53D-C77C-47DB-BCCA-B15EC32E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9D6-96FA-4CDD-963A-9F850724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8B4-D3B1-418D-9CEB-93A62FD7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DE6-9F92-44BB-969D-D4BFE393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1A4-0591-430D-89F9-55050108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C2F-7986-421D-8504-A18CB041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9612-1F02-4DF7-B8D3-77DD61598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3440" y="549360"/>
            <a:ext cx="23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6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7800" y="1916280"/>
            <a:ext cx="297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6000" spc="-1" strike="noStrike">
                <a:solidFill>
                  <a:srgbClr val="5f5f5f"/>
                </a:solidFill>
                <a:latin typeface="Arial"/>
              </a:rPr>
              <a:t>Energ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8520" y="3068640"/>
            <a:ext cx="335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6000" spc="-1" strike="noStrike">
                <a:solidFill>
                  <a:srgbClr val="5f5f5f"/>
                </a:solidFill>
                <a:latin typeface="Arial"/>
              </a:rPr>
              <a:t>Leistu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4240" y="6021360"/>
            <a:ext cx="35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© Markus Baumgartner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833480"/>
            <a:ext cx="8280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,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= 15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3,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9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0,72 g/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720" y="115236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419640" y="3068640"/>
          <a:ext cx="230184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068640"/>
                    <a:ext cx="230184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833480"/>
            <a:ext cx="8280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,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= 15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3,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9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0,72 g/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720" y="115236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19640" y="3068640"/>
          <a:ext cx="230184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068640"/>
                    <a:ext cx="230184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1833480"/>
            <a:ext cx="8280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,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= 15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3,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9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0,72 g/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720" y="115236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916360" y="2879640"/>
          <a:ext cx="3960720" cy="34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879640"/>
                    <a:ext cx="396072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833480"/>
            <a:ext cx="8280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,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= 15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3,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9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0,72 g/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720" y="115236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3800" y="184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1,5 </a:t>
            </a: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4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3800" y="213372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3 ·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4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34160" y="184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1,5 </a:t>
            </a: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5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34160" y="213372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9 ·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-5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248616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720 kg/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227640" y="2708280"/>
          <a:ext cx="2681280" cy="28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2708280"/>
                    <a:ext cx="268128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833480"/>
            <a:ext cx="8280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,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= 15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3,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9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0,72 g/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720" y="115236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3800" y="184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1,5 </a:t>
            </a: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4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3800" y="213372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3 ·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-4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486240"/>
            <a:ext cx="6335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7c80"/>
                </a:solidFill>
                <a:latin typeface="Arial"/>
              </a:rPr>
              <a:t>h</a:t>
            </a:r>
            <a:r>
              <a:rPr b="1" lang="de-CH" sz="2000" spc="-1" strike="noStrike" baseline="-25000">
                <a:solidFill>
                  <a:srgbClr val="ff7c80"/>
                </a:solidFill>
                <a:latin typeface="Arial"/>
              </a:rPr>
              <a:t>B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0 cm =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66ff"/>
                </a:solidFill>
                <a:latin typeface="Arial"/>
              </a:rPr>
              <a:t>h</a:t>
            </a:r>
            <a:r>
              <a:rPr b="1" lang="de-CH" sz="2000" spc="-1" strike="noStrike" baseline="-25000">
                <a:solidFill>
                  <a:srgbClr val="cc66ff"/>
                </a:solidFill>
                <a:latin typeface="Arial"/>
              </a:rPr>
              <a:t>B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30 cm = 0,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4160" y="184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1,5 </a:t>
            </a: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5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4160" y="213372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9 ·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-5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48616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720 kg/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227640" y="2708280"/>
          <a:ext cx="2681280" cy="28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2708280"/>
                    <a:ext cx="268128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3480"/>
            <a:ext cx="8280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,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= 15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3,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9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0,72 g/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720" y="115236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3800" y="184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1,5 </a:t>
            </a: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4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3800" y="213372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3 ·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-4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3486240"/>
            <a:ext cx="6192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7c80"/>
                </a:solidFill>
                <a:latin typeface="Arial"/>
              </a:rPr>
              <a:t>h</a:t>
            </a:r>
            <a:r>
              <a:rPr b="1" lang="de-CH" sz="2000" spc="-1" strike="noStrike" baseline="-25000">
                <a:solidFill>
                  <a:srgbClr val="ff7c80"/>
                </a:solidFill>
                <a:latin typeface="Arial"/>
              </a:rPr>
              <a:t>B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0 cm = 0,1 m           </a:t>
            </a:r>
            <a:r>
              <a:rPr b="1" lang="de-CH" sz="2000" spc="-1" strike="noStrike">
                <a:solidFill>
                  <a:srgbClr val="cc66ff"/>
                </a:solidFill>
                <a:latin typeface="Arial"/>
              </a:rPr>
              <a:t>h</a:t>
            </a:r>
            <a:r>
              <a:rPr b="1" lang="de-CH" sz="2000" spc="-1" strike="noStrike" baseline="-25000">
                <a:solidFill>
                  <a:srgbClr val="cc66ff"/>
                </a:solidFill>
                <a:latin typeface="Arial"/>
              </a:rPr>
              <a:t>B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30 cm = 0,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4160" y="184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1,5 </a:t>
            </a: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5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4160" y="213372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9 ·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-5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248616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720 kg/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129440" y="2708280"/>
          <a:ext cx="177948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9440" y="2708280"/>
                    <a:ext cx="17794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24000" y="4746600"/>
            <a:ext cx="88200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1 = 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0,1 m · 720 kg/m</a:t>
            </a:r>
            <a:r>
              <a:rPr b="1" lang="de-CH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 · 9,81 m/s</a:t>
            </a:r>
            <a:r>
              <a:rPr b="1" lang="de-CH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de-CH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 · 1000 kg/m</a:t>
            </a:r>
            <a:r>
              <a:rPr b="1" lang="de-CH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 · 9,81 m/s</a:t>
            </a:r>
            <a:r>
              <a:rPr b="1" lang="de-CH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 = 0,3 m · 720 kg/m</a:t>
            </a:r>
            <a:r>
              <a:rPr b="1" lang="de-CH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 · 9,81 m/s</a:t>
            </a:r>
            <a:r>
              <a:rPr b="1" lang="de-CH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706,32 Pa + 9810 h</a:t>
            </a:r>
            <a:r>
              <a:rPr b="1" lang="de-CH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= 2118,96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CH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= 1412,64 Pa / 9810 = </a:t>
            </a: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0,14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1833480"/>
            <a:ext cx="8280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,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= 15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3,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9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0,72 g/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720" y="115236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3800" y="184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1,5 </a:t>
            </a: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4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3800" y="213372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3 ·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-4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3486240"/>
            <a:ext cx="633564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de-CH" sz="20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de-CH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cc66ff"/>
                </a:solidFill>
                <a:latin typeface="Arial"/>
              </a:rPr>
              <a:t>h</a:t>
            </a:r>
            <a:r>
              <a:rPr b="1" lang="de-CH" sz="1800" spc="-1" strike="noStrike" baseline="-25000">
                <a:solidFill>
                  <a:srgbClr val="cc66ff"/>
                </a:solidFill>
                <a:latin typeface="Arial"/>
              </a:rPr>
              <a:t>B2</a:t>
            </a:r>
            <a:r>
              <a:rPr b="1" lang="de-CH" sz="18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CH" sz="1800" spc="-1" strike="noStrike">
                <a:solidFill>
                  <a:srgbClr val="ff7c80"/>
                </a:solidFill>
                <a:latin typeface="Arial"/>
              </a:rPr>
              <a:t>h</a:t>
            </a:r>
            <a:r>
              <a:rPr b="1" lang="de-CH" sz="1800" spc="-1" strike="noStrike" baseline="-25000">
                <a:solidFill>
                  <a:srgbClr val="ff7c80"/>
                </a:solidFill>
                <a:latin typeface="Arial"/>
              </a:rPr>
              <a:t>B1</a:t>
            </a:r>
            <a:r>
              <a:rPr b="1" lang="de-CH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– h</a:t>
            </a:r>
            <a:r>
              <a:rPr b="1" lang="de-CH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de-CH" sz="1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= 0,3 m – 0,1 m – 0,144 m = 0,05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de-CH" sz="1800" spc="-1" strike="noStrike">
                <a:solidFill>
                  <a:srgbClr val="009900"/>
                </a:solidFill>
                <a:latin typeface="Arial"/>
              </a:rPr>
              <a:t>h = 5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160" y="184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1,5 </a:t>
            </a: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5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4160" y="213372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9 · 10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-5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248616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720 kg/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227640" y="2708280"/>
          <a:ext cx="2681280" cy="28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2708280"/>
                    <a:ext cx="268128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3080" y="6336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760" y="1152360"/>
            <a:ext cx="76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 Flüssigkeitsstrom setzt Energie frei, sobald er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 vom hohen zum tiefen Druck flies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3080" y="6336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0760" y="1152360"/>
            <a:ext cx="760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 Flüssigkeitsstrom setzt Energie frei, sobald er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 vom hohen zum tiefen Druck flies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nergiest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nergie: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(Fläche unter Energiestrom-Zeit-Dia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284720" y="2276640"/>
                <a:ext cx="38163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hy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284720" y="4005360"/>
                <a:ext cx="34750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hyd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9040" y="1147680"/>
            <a:ext cx="725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ruck </a:t>
            </a:r>
            <a:r>
              <a:rPr b="1" lang="de-CH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Potential oder Energiebeladungs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Legt fest wie viel Energie mit dem Volumen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transportier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kennt keine R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Gefässform spielt keine Ro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3080" y="6336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440" y="1152360"/>
            <a:ext cx="49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9900"/>
                </a:solidFill>
                <a:latin typeface="Arial"/>
              </a:rPr>
              <a:t>Einhei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nergiestrom: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400" spc="-1" strike="noStrike">
                <a:solidFill>
                  <a:srgbClr val="ff3300"/>
                </a:solidFill>
                <a:latin typeface="Arial"/>
              </a:rPr>
              <a:t>W: W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nergie: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400" spc="-1" strike="noStrike">
                <a:solidFill>
                  <a:srgbClr val="ff3300"/>
                </a:solidFill>
                <a:latin typeface="Arial"/>
              </a:rPr>
              <a:t>J: Jo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3080" y="6336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080" y="1152360"/>
            <a:ext cx="24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10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3080" y="6336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360" y="1833480"/>
            <a:ext cx="711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n einem Rohr fliesst bei einem Druck von 1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·10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ein Volumenstrom von 2,0 Liter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Berechnen Sie den zugeordneten Energiest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Wie viel Energie ist während 1,5 min gefloss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080" y="1152360"/>
            <a:ext cx="24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10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3080" y="6336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33480"/>
            <a:ext cx="47512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 = 1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·10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2,0 Liter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) E während 1,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080" y="1152360"/>
            <a:ext cx="24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10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53080" y="6336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1833480"/>
            <a:ext cx="47512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 = 1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·10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2,0 Liter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) E während 1,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080" y="1152360"/>
            <a:ext cx="24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10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84464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150‘0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21337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0,002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3080" y="2744640"/>
            <a:ext cx="47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9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3080" y="6336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1833480"/>
            <a:ext cx="47512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 = 1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·10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2,0 Liter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) E während 1,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080" y="1152360"/>
            <a:ext cx="24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10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4464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150‘0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21337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0,002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13080" y="2744640"/>
            <a:ext cx="47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9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486240"/>
            <a:ext cx="63356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p · 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50’000 Pa · 0,002 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/s = </a:t>
            </a:r>
            <a:r>
              <a:rPr b="1" lang="de-CH" sz="2000" spc="-1" strike="noStrike">
                <a:solidFill>
                  <a:srgbClr val="009900"/>
                </a:solidFill>
                <a:latin typeface="Arial"/>
              </a:rPr>
              <a:t>300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3080" y="6336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1833480"/>
            <a:ext cx="47512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 = 1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·10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2,0 Liter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) E während 1,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080" y="1152360"/>
            <a:ext cx="24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10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84464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150‘0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21337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= 0,002 m</a:t>
            </a:r>
            <a:r>
              <a:rPr b="1" lang="de-CH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de-CH" sz="2000" spc="-1" strike="noStrike">
                <a:solidFill>
                  <a:srgbClr val="0000ff"/>
                </a:solidFill>
                <a:latin typeface="Arial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13080" y="2744640"/>
            <a:ext cx="47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Arial"/>
                <a:ea typeface="Arial"/>
              </a:rPr>
              <a:t>= 9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3486240"/>
            <a:ext cx="6335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p · 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50’000 Pa · 0,002 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/s = </a:t>
            </a:r>
            <a:r>
              <a:rPr b="1" lang="de-CH" sz="2000" spc="-1" strike="noStrike">
                <a:solidFill>
                  <a:srgbClr val="009900"/>
                </a:solidFill>
                <a:latin typeface="Arial"/>
              </a:rPr>
              <a:t>300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 = 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· t = 300 W · 90 s = 27‘000 J = </a:t>
            </a:r>
            <a:r>
              <a:rPr b="1" lang="de-DE" sz="2000" spc="-1" strike="noStrike">
                <a:solidFill>
                  <a:srgbClr val="009900"/>
                </a:solidFill>
                <a:latin typeface="Arial"/>
              </a:rPr>
              <a:t>27 k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3800" y="6336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Leis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0760" y="1152360"/>
            <a:ext cx="62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nergie, welche in einer bestimmten Zeit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 freigesetz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3800" y="6336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Leis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0760" y="1152360"/>
            <a:ext cx="62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nergie, welche in einer bestimmten Zeit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 freigesetz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082960" y="2421000"/>
                <a:ext cx="39290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y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p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9040" y="1147680"/>
            <a:ext cx="725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ruck </a:t>
            </a:r>
            <a:r>
              <a:rPr b="1" lang="de-CH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Potential oder Energiebeladungs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Legt fest wie viel Energie mit dem Volumen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transportier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kennt keine R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Gefässform spielt keine Ro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19280" y="4941720"/>
                <a:ext cx="5832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908000" y="3357720"/>
            <a:ext cx="8636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3359160"/>
            <a:ext cx="1584360" cy="1150920"/>
          </a:xfrm>
          <a:custGeom>
            <a:avLst/>
            <a:gdLst>
              <a:gd name="textAreaLeft" fmla="*/ 348480 w 1584360"/>
              <a:gd name="textAreaRight" fmla="*/ 1235880 w 1584360"/>
              <a:gd name="textAreaTop" fmla="*/ 253080 h 1150920"/>
              <a:gd name="textAreaBottom" fmla="*/ 8978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3357720"/>
            <a:ext cx="1584360" cy="1152360"/>
          </a:xfrm>
          <a:prstGeom prst="hexagon">
            <a:avLst>
              <a:gd name="adj" fmla="val 34372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7440" y="44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1200" y="44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6520" y="44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7440" y="37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7800" y="37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63120" y="37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3800" y="6336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Leis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760" y="1152360"/>
            <a:ext cx="627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nergie, welche in einer bestimmten Zeit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 freigesetz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9900"/>
                </a:solidFill>
                <a:latin typeface="Arial"/>
              </a:rPr>
              <a:t>Einhei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3300"/>
                </a:solidFill>
                <a:latin typeface="Arial"/>
              </a:rPr>
              <a:t>W: W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1 PS = 736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1 kW = 1,36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356000" y="2421000"/>
                <a:ext cx="39290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y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p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3800" y="6336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Leis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080" y="1152360"/>
            <a:ext cx="24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1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3800" y="6336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Leis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080" y="1152360"/>
            <a:ext cx="24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1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3000" y="1833480"/>
            <a:ext cx="834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ine Pumpe fördert pro Minute 150 Liter Wasser. Am Einlas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tutzen herrscht ein Druck von 30 bar, beim Ausgangsstu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ind es 48 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elche Leistung gibt die Pumpe an das Wasser 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3800" y="6336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Leis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1833480"/>
            <a:ext cx="604836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150 Liter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CH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= 30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CH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= 48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080" y="1152360"/>
            <a:ext cx="24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1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3800" y="6336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Leis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833480"/>
            <a:ext cx="604836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150 Liter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CH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= 30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CH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= 48 b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080" y="1152360"/>
            <a:ext cx="24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1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184464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= 0,0025 m</a:t>
            </a:r>
            <a:r>
              <a:rPr b="1" lang="de-CH" sz="1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3280" y="213372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= 3‘000‘000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44720" y="242100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= 4‘800‘000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53800" y="6336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Leist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1833480"/>
            <a:ext cx="604836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150 Liter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CH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= 30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CH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= 48 b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080" y="1152360"/>
            <a:ext cx="24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1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184464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= 0,0025 m</a:t>
            </a:r>
            <a:r>
              <a:rPr b="1" lang="de-CH" sz="1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3280" y="213372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= 3‘000‘000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3486240"/>
            <a:ext cx="633564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1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· I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= 1‘800’0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1‘800’000 Pa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· 0,0025 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/s = 4500 W</a:t>
            </a:r>
            <a:r>
              <a:rPr b="1" lang="de-CH" sz="2000" spc="-1" strike="noStrike">
                <a:solidFill>
                  <a:srgbClr val="009900"/>
                </a:solidFill>
                <a:latin typeface="Arial"/>
              </a:rPr>
              <a:t> = 4,5 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4720" y="242100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ff"/>
                </a:solidFill>
                <a:latin typeface="Arial"/>
              </a:rPr>
              <a:t>= 4‘800‘000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75880" y="1413000"/>
            <a:ext cx="7113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http://www.markusbaumi.ch/schule/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Formelsamm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Prä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54240" y="6021360"/>
            <a:ext cx="35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© Markus Baumgartner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9040" y="1147680"/>
            <a:ext cx="72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ruck </a:t>
            </a:r>
            <a:r>
              <a:rPr b="1" lang="de-CH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Potential oder Energiebeladungs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Legt fest wie viel Energie mit dem Volumen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transportier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kennt keine R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Gefässform spielt keine Ro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1 bar = ungefährer Luftdruck auf Meereshö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ruckmessgerät: Man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Luftdruckmessgerät: Bar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340000" y="4508640"/>
                <a:ext cx="358920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2560" y="1152360"/>
            <a:ext cx="57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9900"/>
                </a:solidFill>
                <a:latin typeface="Arial"/>
              </a:rPr>
              <a:t>Einhei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3300"/>
                </a:solidFill>
                <a:latin typeface="Arial"/>
              </a:rPr>
              <a:t>Pa: Pa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1 bar = 10</a:t>
            </a:r>
            <a:r>
              <a:rPr b="1" lang="de-CH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Pa = 100‘000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1 bar = 750 mmHg = 750 Torr (Mediz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340000" y="4494240"/>
                <a:ext cx="35892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720" y="115236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183348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Zwei Glasrohre mit den Querschnittflächen 1,5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und 3,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ind miteinander verbunden und teilweise mit Wasser gefüllt.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as engere Rohr werden nun 15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Benzin (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0,72 g/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)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ns andere Rohr 9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Benzin geschüttet. Welche Niveau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fferenz haben die Benzinoberflächen in den beiden Ro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720" y="115236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33480"/>
            <a:ext cx="8280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,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= 15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3,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9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0,72 g/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720" y="115236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3800" y="63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4000" spc="-1" strike="noStrike">
                <a:solidFill>
                  <a:srgbClr val="5f5f5f"/>
                </a:solidFill>
                <a:latin typeface="Arial"/>
              </a:rPr>
              <a:t>Dr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833480"/>
            <a:ext cx="8280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g: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= 1,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= 15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3,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90 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CH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= 0,72 g/cm</a:t>
            </a:r>
            <a:r>
              <a:rPr b="1" lang="de-CH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ges: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720" y="115236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 1.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419640" y="3068640"/>
          <a:ext cx="230184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068640"/>
                    <a:ext cx="230184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4:34:34Z</dcterms:created>
  <dc:creator>maba</dc:creator>
  <dc:description/>
  <dc:language>en-US</dc:language>
  <cp:lastModifiedBy>maba</cp:lastModifiedBy>
  <dcterms:modified xsi:type="dcterms:W3CDTF">2004-11-08T17:59:46Z</dcterms:modified>
  <cp:revision>43</cp:revision>
  <dc:subject/>
  <dc:title>Folie 1</dc:title>
</cp:coreProperties>
</file>